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F39-E9E9-414A-B5A7-D103A350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3F2-7C1B-4D87-9AF4-9EDFD1BE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1C4-DFE3-4631-9A4E-18127211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E47-657A-4FD7-B47A-0757FE91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78A-659C-4A70-9957-EFF1A93C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8F4-273E-45BF-9573-E78360C6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A67-0A19-47D7-906F-ABFF4A79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39E-B42F-41CA-B61B-4AB85FA7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249-72EF-4230-B9C7-DE1FC776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008-D883-430E-AB49-7BE5CF3A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3EA-AE59-4A0C-B9DE-6C7A166E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58D-3BDF-4981-B91D-1D2F8901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029F-D59E-43D5-8362-235D7F7EE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of all merc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grace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make a fresh st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know we have not loved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have we loved our neighb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hope to be forgi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each us how to forgiv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lead us forward in a new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neither gru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resentment have a pa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095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2400" spc="-1" strike="noStrike">
                <a:solidFill>
                  <a:srgbClr val="bbe0e3"/>
                </a:solidFill>
                <a:latin typeface="Arial Narrow"/>
              </a:rPr>
              <a:t>Methodist Worship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01:42:10Z</dcterms:created>
  <dc:creator>Anon Anon</dc:creator>
  <dc:description/>
  <dc:language>en-US</dc:language>
  <cp:lastModifiedBy>Anon Anon</cp:lastModifiedBy>
  <dcterms:modified xsi:type="dcterms:W3CDTF">2005-08-16T04:20:57Z</dcterms:modified>
  <cp:revision>17</cp:revision>
  <dc:subject/>
  <dc:title>PowerPoint Presentation</dc:title>
</cp:coreProperties>
</file>